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80.wmf" ContentType="image/x-wmf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35.png" ContentType="image/png"/>
  <Override PartName="/ppt/media/image44.png" ContentType="image/png"/>
  <Override PartName="/ppt/media/image13.jpeg" ContentType="image/jpeg"/>
  <Override PartName="/ppt/media/image17.png" ContentType="image/png"/>
  <Override PartName="/ppt/media/image20.wmf" ContentType="image/x-wmf"/>
  <Override PartName="/ppt/media/image19.png" ContentType="image/png"/>
  <Override PartName="/ppt/media/image59.png" ContentType="image/png"/>
  <Override PartName="/ppt/media/image22.png" ContentType="image/png"/>
  <Override PartName="/ppt/media/image21.wmf" ContentType="image/x-wmf"/>
  <Override PartName="/ppt/media/image60.png" ContentType="image/png"/>
  <Override PartName="/ppt/media/image18.png" ContentType="image/png"/>
  <Override PartName="/ppt/media/image27.png" ContentType="image/png"/>
  <Override PartName="/ppt/media/image30.wmf" ContentType="image/x-wmf"/>
  <Override PartName="/ppt/media/image73.png" ContentType="image/png"/>
  <Override PartName="/ppt/media/image62.png" ContentType="image/png"/>
  <Override PartName="/ppt/media/image63.wmf" ContentType="image/x-wmf"/>
  <Override PartName="/ppt/media/image23.png" ContentType="image/png"/>
  <Override PartName="/ppt/media/image67.png" ContentType="image/png"/>
  <Override PartName="/ppt/media/image77.png" ContentType="image/png"/>
  <Override PartName="/ppt/media/image40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9.png" ContentType="image/png"/>
  <Override PartName="/ppt/media/image64.wmf" ContentType="image/x-wmf"/>
  <Override PartName="/ppt/media/image24.png" ContentType="image/png"/>
  <Override PartName="/ppt/media/image11.jpeg" ContentType="image/jpeg"/>
  <Override PartName="/ppt/media/image76.png" ContentType="image/png"/>
  <Override PartName="/ppt/media/image75.wmf" ContentType="image/x-wmf"/>
  <Override PartName="/ppt/media/image74.png" ContentType="image/png"/>
  <Override PartName="/ppt/media/image72.png" ContentType="image/png"/>
  <Override PartName="/ppt/media/image6.jpeg" ContentType="image/jpe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66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2.jpeg" ContentType="image/jpeg"/>
  <Override PartName="/ppt/media/image8.png" ContentType="image/png"/>
  <Override PartName="/ppt/media/image38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78.wmf" ContentType="image/x-wmf"/>
  <Override PartName="/ppt/media/image10.png" ContentType="image/pn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5F7-98FB-4EC8-B3BB-72C56C33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983-F6CF-4103-B20C-758F774D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AF8-9267-49C0-B445-D7CBE015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F4D-E422-4EFD-9BCE-58F67CBF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F4A-B650-494F-AFC4-7A6BD7E1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3BD-6802-42DE-B2E7-5F1BB36E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710-8E53-4AA8-9F93-4BECB72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358-E5DC-44F8-AEB8-3AD1CB78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347-9FCA-468B-855B-8058128A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923-94B0-41B4-BEBE-0539A482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D6A-B724-494A-9B17-3945365A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869-3F8F-4888-B503-88C797A7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048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160"/>
            <a:ext cx="91440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第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章    中文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Windows 98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操作系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0A6B-17D8-411D-A374-2B0505F352DE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B447-9391-433D-B5B5-E1C496972F9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" Target="slide28.xml"/><Relationship Id="rId12" Type="http://schemas.openxmlformats.org/officeDocument/2006/relationships/slide" Target="slide28.xml"/><Relationship Id="rId13" Type="http://schemas.openxmlformats.org/officeDocument/2006/relationships/slide" Target="slide55.xml"/><Relationship Id="rId14" Type="http://schemas.openxmlformats.org/officeDocument/2006/relationships/slide" Target="slide55.xml"/><Relationship Id="rId15" Type="http://schemas.openxmlformats.org/officeDocument/2006/relationships/slide" Target="slide55.xml"/><Relationship Id="rId16" Type="http://schemas.openxmlformats.org/officeDocument/2006/relationships/slide" Target="slide55.xml"/><Relationship Id="rId17" Type="http://schemas.openxmlformats.org/officeDocument/2006/relationships/slide" Target="slide74.xml"/><Relationship Id="rId18" Type="http://schemas.openxmlformats.org/officeDocument/2006/relationships/slide" Target="slide74.xml"/><Relationship Id="rId19" Type="http://schemas.openxmlformats.org/officeDocument/2006/relationships/slide" Target="slide74.xml"/><Relationship Id="rId20" Type="http://schemas.openxmlformats.org/officeDocument/2006/relationships/slide" Target="slide83.xml"/><Relationship Id="rId21" Type="http://schemas.openxmlformats.org/officeDocument/2006/relationships/slide" Target="slide83.xml"/><Relationship Id="rId22" Type="http://schemas.openxmlformats.org/officeDocument/2006/relationships/slide" Target="slide83.xml"/><Relationship Id="rId2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3.png"/><Relationship Id="rId1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slide123.xml"/><Relationship Id="rId2" Type="http://schemas.openxmlformats.org/officeDocument/2006/relationships/slide" Target="slide123.xml"/><Relationship Id="rId3" Type="http://schemas.openxmlformats.org/officeDocument/2006/relationships/slide" Target="slide123.xml"/><Relationship Id="rId4" Type="http://schemas.openxmlformats.org/officeDocument/2006/relationships/slide" Target="slide123.xml"/><Relationship Id="rId5" Type="http://schemas.openxmlformats.org/officeDocument/2006/relationships/slide" Target="slide123.xml"/><Relationship Id="rId6" Type="http://schemas.openxmlformats.org/officeDocument/2006/relationships/slide" Target="slide126.xml"/><Relationship Id="rId7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3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56.xml"/><Relationship Id="rId3" Type="http://schemas.openxmlformats.org/officeDocument/2006/relationships/slide" Target="slide56.xml"/><Relationship Id="rId4" Type="http://schemas.openxmlformats.org/officeDocument/2006/relationships/slide" Target="slide69.xml"/><Relationship Id="rId5" Type="http://schemas.openxmlformats.org/officeDocument/2006/relationships/slide" Target="slide70.xml"/><Relationship Id="rId6" Type="http://schemas.openxmlformats.org/officeDocument/2006/relationships/slide" Target="slide70.xml"/><Relationship Id="rId7" Type="http://schemas.openxmlformats.org/officeDocument/2006/relationships/slide" Target="slide70.xml"/><Relationship Id="rId8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" Target="slide55.xml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80.xm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3.xml"/><Relationship Id="rId10" Type="http://schemas.openxmlformats.org/officeDocument/2006/relationships/slide" Target="slide23.xml"/><Relationship Id="rId11" Type="http://schemas.openxmlformats.org/officeDocument/2006/relationships/slide" Target="slide23.xml"/><Relationship Id="rId12" Type="http://schemas.openxmlformats.org/officeDocument/2006/relationships/slide" Target="slide23.xml"/><Relationship Id="rId13" Type="http://schemas.openxmlformats.org/officeDocument/2006/relationships/slide" Target="slide24.xml"/><Relationship Id="rId14" Type="http://schemas.openxmlformats.org/officeDocument/2006/relationships/slide" Target="slide24.xml"/><Relationship Id="rId15" Type="http://schemas.openxmlformats.org/officeDocument/2006/relationships/slide" Target="slide24.xml"/><Relationship Id="rId16" Type="http://schemas.openxmlformats.org/officeDocument/2006/relationships/slide" Target="slide25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1.xml"/><Relationship Id="rId20" Type="http://schemas.openxmlformats.org/officeDocument/2006/relationships/slide" Target="slide1.xml"/><Relationship Id="rId2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slide" Target="slide84.xml"/><Relationship Id="rId3" Type="http://schemas.openxmlformats.org/officeDocument/2006/relationships/slide" Target="slide84.xml"/><Relationship Id="rId4" Type="http://schemas.openxmlformats.org/officeDocument/2006/relationships/slide" Target="slide87.xml"/><Relationship Id="rId5" Type="http://schemas.openxmlformats.org/officeDocument/2006/relationships/slide" Target="slide88.xml"/><Relationship Id="rId6" Type="http://schemas.openxmlformats.org/officeDocument/2006/relationships/slide" Target="slide88.xml"/><Relationship Id="rId7" Type="http://schemas.openxmlformats.org/officeDocument/2006/relationships/slide" Target="slide88.xml"/><Relationship Id="rId8" Type="http://schemas.openxmlformats.org/officeDocument/2006/relationships/slide" Target="slide99.xml"/><Relationship Id="rId9" Type="http://schemas.openxmlformats.org/officeDocument/2006/relationships/slide" Target="slide99.xml"/><Relationship Id="rId10" Type="http://schemas.openxmlformats.org/officeDocument/2006/relationships/slide" Target="slide99.xml"/><Relationship Id="rId1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  <a:ea typeface="黑体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  <a:ea typeface="黑体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操作系统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2.1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2" action="ppaction://hlinksldjump"/>
              </a:rPr>
              <a:t>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4" action="ppaction://hlinksldjump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2.2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6" action="ppaction://hlinksldjump"/>
              </a:rPr>
              <a:t>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8" action="ppaction://hlinksldjump"/>
              </a:rPr>
              <a:t>的基本知识与操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2.3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12" action="ppaction://hlinksldjump"/>
              </a:rPr>
              <a:t>的资源管理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2.4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14" action="ppaction://hlinksldjump"/>
              </a:rPr>
              <a:t>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16" action="ppaction://hlinksldjump"/>
              </a:rPr>
              <a:t>的控制面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2.5   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的附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2.6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Windows 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中文输入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鼠标的几种形状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2696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80120" y="2514600"/>
            <a:ext cx="434880" cy="609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905120" y="3200400"/>
            <a:ext cx="4269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257800" y="327672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905120" y="3962520"/>
            <a:ext cx="533160" cy="509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5257800" y="3886200"/>
            <a:ext cx="609480" cy="5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1905120" y="4672080"/>
            <a:ext cx="533160" cy="509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5257800" y="4648320"/>
            <a:ext cx="533520" cy="50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1981080" y="5334120"/>
            <a:ext cx="408240" cy="533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257800" y="5334120"/>
            <a:ext cx="609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295280" y="1828800"/>
            <a:ext cx="7543440" cy="4114440"/>
            <a:chOff x="1295280" y="1828800"/>
            <a:chExt cx="7543440" cy="4114440"/>
          </a:xfrm>
        </p:grpSpPr>
        <p:grpSp>
          <p:nvGrpSpPr>
            <p:cNvPr id="130" name=""/>
            <p:cNvGrpSpPr/>
            <p:nvPr/>
          </p:nvGrpSpPr>
          <p:grpSpPr>
            <a:xfrm>
              <a:off x="1301760" y="1834200"/>
              <a:ext cx="7529040" cy="4102920"/>
              <a:chOff x="1301760" y="1834200"/>
              <a:chExt cx="7529040" cy="41029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1301760" y="1834200"/>
                <a:ext cx="1432080" cy="603720"/>
                <a:chOff x="1301760" y="1834200"/>
                <a:chExt cx="1432080" cy="603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98960" y="1834200"/>
                  <a:ext cx="123768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鼠标形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01760" y="1834200"/>
                  <a:ext cx="1432080" cy="60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734200" y="1834200"/>
                <a:ext cx="2000520" cy="603720"/>
                <a:chOff x="2734200" y="1834200"/>
                <a:chExt cx="2000520" cy="603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831400" y="1834200"/>
                  <a:ext cx="180540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含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34200" y="1834200"/>
                  <a:ext cx="2000520" cy="60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735080" y="1834200"/>
                <a:ext cx="1918440" cy="603720"/>
                <a:chOff x="4735080" y="1834200"/>
                <a:chExt cx="1918440" cy="603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831920" y="1834200"/>
                  <a:ext cx="172404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鼠标形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735080" y="1834200"/>
                  <a:ext cx="1918440" cy="60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654240" y="1834200"/>
                <a:ext cx="2176560" cy="603720"/>
                <a:chOff x="6654240" y="1834200"/>
                <a:chExt cx="2176560" cy="603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751440" y="1834200"/>
                  <a:ext cx="198216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含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4240" y="1834200"/>
                  <a:ext cx="2176560" cy="60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301760" y="2438280"/>
                <a:ext cx="1432080" cy="699480"/>
                <a:chOff x="1301760" y="2438280"/>
                <a:chExt cx="1432080" cy="6994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398960" y="2438280"/>
                  <a:ext cx="123768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301760" y="2438280"/>
                  <a:ext cx="143208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2734200" y="2438280"/>
                <a:ext cx="2000520" cy="699480"/>
                <a:chOff x="2734200" y="2438280"/>
                <a:chExt cx="2000520" cy="6994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2831400" y="2438280"/>
                  <a:ext cx="180540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文字选择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34200" y="2438280"/>
                  <a:ext cx="200052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735080" y="2438280"/>
                <a:ext cx="1918440" cy="699480"/>
                <a:chOff x="4735080" y="2438280"/>
                <a:chExt cx="1918440" cy="6994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831920" y="2438280"/>
                  <a:ext cx="172404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35080" y="2438280"/>
                  <a:ext cx="191844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654240" y="2438280"/>
                <a:ext cx="2176560" cy="699480"/>
                <a:chOff x="6654240" y="2438280"/>
                <a:chExt cx="2176560" cy="6994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751440" y="2438280"/>
                  <a:ext cx="198216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调整垂直大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654240" y="2438280"/>
                  <a:ext cx="217656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301760" y="3138480"/>
                <a:ext cx="1432080" cy="699120"/>
                <a:chOff x="1301760" y="3138480"/>
                <a:chExt cx="1432080" cy="6991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398960" y="3138480"/>
                  <a:ext cx="12376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01760" y="3138480"/>
                  <a:ext cx="143208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734200" y="3138480"/>
                <a:ext cx="2000520" cy="699120"/>
                <a:chOff x="2734200" y="3138480"/>
                <a:chExt cx="2000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831400" y="3138480"/>
                  <a:ext cx="18054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标准选择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34200" y="3138480"/>
                  <a:ext cx="2000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735080" y="3138480"/>
                <a:ext cx="1918440" cy="699120"/>
                <a:chOff x="4735080" y="3138480"/>
                <a:chExt cx="191844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831920" y="3138480"/>
                  <a:ext cx="17240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735080" y="3138480"/>
                  <a:ext cx="19184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6654240" y="3138480"/>
                <a:ext cx="2176560" cy="699120"/>
                <a:chOff x="6654240" y="3138480"/>
                <a:chExt cx="217656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751440" y="3138480"/>
                  <a:ext cx="19821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调整水平大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654240" y="3138480"/>
                  <a:ext cx="2176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301760" y="3837960"/>
                <a:ext cx="1432080" cy="699120"/>
                <a:chOff x="1301760" y="3837960"/>
                <a:chExt cx="1432080" cy="6991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398960" y="3837960"/>
                  <a:ext cx="12376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301760" y="3837960"/>
                  <a:ext cx="143208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734200" y="3837960"/>
                <a:ext cx="2000520" cy="699120"/>
                <a:chOff x="2734200" y="3837960"/>
                <a:chExt cx="2000520" cy="6991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831400" y="3837960"/>
                  <a:ext cx="18054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帮助选择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734200" y="3837960"/>
                  <a:ext cx="2000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735080" y="3837960"/>
                <a:ext cx="1918440" cy="699120"/>
                <a:chOff x="4735080" y="3837960"/>
                <a:chExt cx="1918440" cy="6991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831920" y="3837960"/>
                  <a:ext cx="17240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735080" y="3837960"/>
                  <a:ext cx="19184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654240" y="3837960"/>
                <a:ext cx="2176560" cy="699120"/>
                <a:chOff x="6654240" y="3837960"/>
                <a:chExt cx="2176560" cy="6991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751440" y="3837960"/>
                  <a:ext cx="19821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对角线调整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654240" y="3837960"/>
                  <a:ext cx="2176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301760" y="4537800"/>
                <a:ext cx="1432080" cy="699120"/>
                <a:chOff x="1301760" y="4537800"/>
                <a:chExt cx="1432080" cy="699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398960" y="4537800"/>
                  <a:ext cx="12376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301760" y="4537800"/>
                  <a:ext cx="143208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734200" y="4537800"/>
                <a:ext cx="2000520" cy="699120"/>
                <a:chOff x="2734200" y="4537800"/>
                <a:chExt cx="2000520" cy="6991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831400" y="4537800"/>
                  <a:ext cx="18054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后台操作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34200" y="4537800"/>
                  <a:ext cx="2000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735080" y="4537800"/>
                <a:ext cx="1918440" cy="699120"/>
                <a:chOff x="4735080" y="4537800"/>
                <a:chExt cx="191844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831920" y="4537800"/>
                  <a:ext cx="17240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35080" y="4537800"/>
                  <a:ext cx="19184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654240" y="4537800"/>
                <a:ext cx="2176560" cy="699120"/>
                <a:chOff x="6654240" y="4537800"/>
                <a:chExt cx="2176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751440" y="4537800"/>
                  <a:ext cx="19821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对角线调整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654240" y="4537800"/>
                  <a:ext cx="2176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301760" y="5237640"/>
                <a:ext cx="1432080" cy="699480"/>
                <a:chOff x="1301760" y="5237640"/>
                <a:chExt cx="1432080" cy="6994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398960" y="5237640"/>
                  <a:ext cx="123768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301760" y="5237640"/>
                  <a:ext cx="143208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734200" y="5237640"/>
                <a:ext cx="2000520" cy="699480"/>
                <a:chOff x="2734200" y="5237640"/>
                <a:chExt cx="2000520" cy="699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831400" y="5237640"/>
                  <a:ext cx="180540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忙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734200" y="5237640"/>
                  <a:ext cx="200052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735080" y="5237640"/>
                <a:ext cx="1918440" cy="699480"/>
                <a:chOff x="4735080" y="5237640"/>
                <a:chExt cx="1918440" cy="6994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831920" y="5237640"/>
                  <a:ext cx="172404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735080" y="5237640"/>
                  <a:ext cx="191844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654240" y="5237640"/>
                <a:ext cx="2176560" cy="699480"/>
                <a:chOff x="6654240" y="5237640"/>
                <a:chExt cx="2176560" cy="6994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751440" y="5237640"/>
                  <a:ext cx="198216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移动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654240" y="5237640"/>
                  <a:ext cx="217656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1295280" y="1828800"/>
              <a:ext cx="754344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几个基本概念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汉字的三个层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画、字根、汉字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汉字的五种笔画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横、竖、撇、捺、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汉字的三种字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左右型、上下型、杂合型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4" name=""/>
          <p:cNvGraphicFramePr/>
          <p:nvPr/>
        </p:nvGraphicFramePr>
        <p:xfrm>
          <a:off x="6761160" y="2514600"/>
          <a:ext cx="28404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1160" y="2514600"/>
                    <a:ext cx="2840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0" y="3124080"/>
          <a:ext cx="27000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3124080"/>
                    <a:ext cx="270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6553080" y="3886200"/>
          <a:ext cx="381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388620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2894040" y="8182080"/>
          <a:ext cx="16200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4040" y="8182080"/>
                    <a:ext cx="16200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2894040" y="10557000"/>
          <a:ext cx="380880" cy="18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4040" y="10557000"/>
                    <a:ext cx="38088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4" name=""/>
          <p:cNvGrpSpPr/>
          <p:nvPr/>
        </p:nvGrpSpPr>
        <p:grpSpPr>
          <a:xfrm>
            <a:off x="1143000" y="1650960"/>
            <a:ext cx="7009560" cy="4292280"/>
            <a:chOff x="1143000" y="1650960"/>
            <a:chExt cx="7009560" cy="4292280"/>
          </a:xfrm>
        </p:grpSpPr>
        <p:grpSp>
          <p:nvGrpSpPr>
            <p:cNvPr id="675" name=""/>
            <p:cNvGrpSpPr/>
            <p:nvPr/>
          </p:nvGrpSpPr>
          <p:grpSpPr>
            <a:xfrm>
              <a:off x="1152720" y="1656360"/>
              <a:ext cx="6988680" cy="4280760"/>
              <a:chOff x="1152720" y="1656360"/>
              <a:chExt cx="6988680" cy="42807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152720" y="1656360"/>
                <a:ext cx="1546560" cy="844560"/>
                <a:chOff x="1152720" y="1656360"/>
                <a:chExt cx="1546560" cy="8445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1189440" y="1656360"/>
                  <a:ext cx="147312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代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152720" y="1656360"/>
                  <a:ext cx="1546560" cy="84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2700000" y="1656360"/>
                <a:ext cx="1460520" cy="844560"/>
                <a:chOff x="2700000" y="1656360"/>
                <a:chExt cx="1460520" cy="8445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2735640" y="1656360"/>
                  <a:ext cx="138780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名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700000" y="1656360"/>
                  <a:ext cx="1460520" cy="84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4161600" y="1656360"/>
                <a:ext cx="1824120" cy="844560"/>
                <a:chOff x="4161600" y="1656360"/>
                <a:chExt cx="1824120" cy="8445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4197240" y="1656360"/>
                  <a:ext cx="175248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走向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161600" y="1656360"/>
                  <a:ext cx="1824120" cy="84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5986440" y="1656360"/>
                <a:ext cx="2154960" cy="844560"/>
                <a:chOff x="5986440" y="1656360"/>
                <a:chExt cx="2154960" cy="8445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023160" y="1656360"/>
                  <a:ext cx="208224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及其变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986440" y="1656360"/>
                  <a:ext cx="2154960" cy="84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1152720" y="2501280"/>
                <a:ext cx="1546560" cy="686880"/>
                <a:chOff x="1152720" y="2501280"/>
                <a:chExt cx="1546560" cy="68688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1189440" y="2501280"/>
                  <a:ext cx="147312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152720" y="2501280"/>
                  <a:ext cx="154656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2700000" y="2501280"/>
                <a:ext cx="1460520" cy="686880"/>
                <a:chOff x="2700000" y="2501280"/>
                <a:chExt cx="1460520" cy="686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2735640" y="2501280"/>
                  <a:ext cx="138780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横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700000" y="2501280"/>
                  <a:ext cx="146052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4161600" y="2501280"/>
                <a:ext cx="1824120" cy="686880"/>
                <a:chOff x="4161600" y="2501280"/>
                <a:chExt cx="1824120" cy="68688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4197240" y="2501280"/>
                  <a:ext cx="175248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自左向右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161600" y="2501280"/>
                  <a:ext cx="182412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5986440" y="2501280"/>
                <a:ext cx="2154960" cy="686880"/>
                <a:chOff x="5986440" y="2501280"/>
                <a:chExt cx="2154960" cy="686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023160" y="2501280"/>
                  <a:ext cx="208224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一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986440" y="2501280"/>
                  <a:ext cx="215496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1152720" y="3188880"/>
                <a:ext cx="1546560" cy="686520"/>
                <a:chOff x="1152720" y="3188880"/>
                <a:chExt cx="1546560" cy="6865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189440" y="3188880"/>
                  <a:ext cx="147312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152720" y="3188880"/>
                  <a:ext cx="15465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700000" y="3188880"/>
                <a:ext cx="1460520" cy="686520"/>
                <a:chOff x="2700000" y="3188880"/>
                <a:chExt cx="1460520" cy="6865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2735640" y="3188880"/>
                  <a:ext cx="138780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竖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700000" y="3188880"/>
                  <a:ext cx="14605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4161600" y="3188880"/>
                <a:ext cx="1824120" cy="686520"/>
                <a:chOff x="4161600" y="3188880"/>
                <a:chExt cx="1824120" cy="6865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197240" y="3188880"/>
                  <a:ext cx="17524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自上而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161600" y="3188880"/>
                  <a:ext cx="18241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986440" y="3188880"/>
                <a:ext cx="2154960" cy="686520"/>
                <a:chOff x="5986440" y="3188880"/>
                <a:chExt cx="2154960" cy="6865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6023160" y="3188880"/>
                  <a:ext cx="208224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丨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刂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986440" y="3188880"/>
                  <a:ext cx="21549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152720" y="3875760"/>
                <a:ext cx="1546560" cy="686520"/>
                <a:chOff x="1152720" y="3875760"/>
                <a:chExt cx="1546560" cy="6865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189440" y="3875760"/>
                  <a:ext cx="147312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152720" y="3875760"/>
                  <a:ext cx="15465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700000" y="3875760"/>
                <a:ext cx="1460520" cy="686520"/>
                <a:chOff x="2700000" y="3875760"/>
                <a:chExt cx="1460520" cy="6865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735640" y="3875760"/>
                  <a:ext cx="138780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撇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700000" y="3875760"/>
                  <a:ext cx="14605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4161600" y="3875760"/>
                <a:ext cx="1824120" cy="686520"/>
                <a:chOff x="4161600" y="3875760"/>
                <a:chExt cx="1824120" cy="6865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4197240" y="3875760"/>
                  <a:ext cx="17524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右上到左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161600" y="3875760"/>
                  <a:ext cx="18241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986440" y="3875760"/>
                <a:ext cx="2154960" cy="686520"/>
                <a:chOff x="5986440" y="3875760"/>
                <a:chExt cx="2154960" cy="6865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6023160" y="3875760"/>
                  <a:ext cx="208224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丿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986440" y="3875760"/>
                  <a:ext cx="21549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1152720" y="4563000"/>
                <a:ext cx="1546560" cy="686520"/>
                <a:chOff x="1152720" y="4563000"/>
                <a:chExt cx="1546560" cy="6865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189440" y="4563000"/>
                  <a:ext cx="147312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152720" y="4563000"/>
                  <a:ext cx="15465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2700000" y="4563000"/>
                <a:ext cx="1460520" cy="686520"/>
                <a:chOff x="2700000" y="4563000"/>
                <a:chExt cx="1460520" cy="6865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2735640" y="4563000"/>
                  <a:ext cx="138780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捺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700000" y="4563000"/>
                  <a:ext cx="14605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4161600" y="4563000"/>
                <a:ext cx="1824120" cy="686520"/>
                <a:chOff x="4161600" y="4563000"/>
                <a:chExt cx="1824120" cy="6865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4197240" y="4563000"/>
                  <a:ext cx="17524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左上到右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161600" y="4563000"/>
                  <a:ext cx="18241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5986440" y="4563000"/>
                <a:ext cx="2154960" cy="686520"/>
                <a:chOff x="5986440" y="4563000"/>
                <a:chExt cx="2154960" cy="6865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023160" y="4563000"/>
                  <a:ext cx="208224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986440" y="4563000"/>
                  <a:ext cx="21549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1152720" y="5250240"/>
                <a:ext cx="1546560" cy="686880"/>
                <a:chOff x="1152720" y="5250240"/>
                <a:chExt cx="1546560" cy="6868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1189440" y="5250240"/>
                  <a:ext cx="147312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152720" y="5250240"/>
                  <a:ext cx="154656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700000" y="5250240"/>
                <a:ext cx="1460520" cy="686880"/>
                <a:chOff x="2700000" y="5250240"/>
                <a:chExt cx="1460520" cy="68688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2735640" y="5250240"/>
                  <a:ext cx="138780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折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700000" y="5250240"/>
                  <a:ext cx="146052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4161600" y="5250240"/>
                <a:ext cx="1824120" cy="686880"/>
                <a:chOff x="4161600" y="5250240"/>
                <a:chExt cx="1824120" cy="68688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4197240" y="5250240"/>
                  <a:ext cx="175248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带转折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161600" y="5250240"/>
                  <a:ext cx="182412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5986440" y="5250240"/>
                <a:ext cx="2154960" cy="686880"/>
                <a:chOff x="5986440" y="5250240"/>
                <a:chExt cx="2154960" cy="68688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6023160" y="5250240"/>
                  <a:ext cx="208224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乙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986440" y="5250240"/>
                  <a:ext cx="215496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8" name=""/>
            <p:cNvSpPr/>
            <p:nvPr/>
          </p:nvSpPr>
          <p:spPr>
            <a:xfrm>
              <a:off x="1143000" y="1650960"/>
              <a:ext cx="7009560" cy="4292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49" name=""/>
          <p:cNvGraphicFramePr/>
          <p:nvPr/>
        </p:nvGraphicFramePr>
        <p:xfrm>
          <a:off x="6705720" y="4540320"/>
          <a:ext cx="380880" cy="33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4540320"/>
                    <a:ext cx="38088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629400" y="5257800"/>
          <a:ext cx="685800" cy="32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5257800"/>
                    <a:ext cx="6858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2209680" y="8380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汉字的五种笔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1219320" y="1447920"/>
            <a:ext cx="7467120" cy="3604680"/>
            <a:chOff x="1219320" y="1447920"/>
            <a:chExt cx="7467120" cy="3604680"/>
          </a:xfrm>
        </p:grpSpPr>
        <p:grpSp>
          <p:nvGrpSpPr>
            <p:cNvPr id="755" name=""/>
            <p:cNvGrpSpPr/>
            <p:nvPr/>
          </p:nvGrpSpPr>
          <p:grpSpPr>
            <a:xfrm>
              <a:off x="1228320" y="1454400"/>
              <a:ext cx="7447320" cy="3590280"/>
              <a:chOff x="1228320" y="1454400"/>
              <a:chExt cx="7447320" cy="359028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1228320" y="1454400"/>
                <a:ext cx="1608840" cy="1007280"/>
                <a:chOff x="1228320" y="1454400"/>
                <a:chExt cx="1608840" cy="100728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262880" y="1454400"/>
                  <a:ext cx="1539720" cy="100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字型名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228320" y="1454400"/>
                  <a:ext cx="1608840" cy="100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2837520" y="1454400"/>
                <a:ext cx="1423800" cy="1007280"/>
                <a:chOff x="2837520" y="1454400"/>
                <a:chExt cx="1423800" cy="100728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2872080" y="1454400"/>
                  <a:ext cx="1354680" cy="100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字型代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837520" y="1454400"/>
                  <a:ext cx="1423800" cy="100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4261680" y="1454400"/>
                <a:ext cx="4413960" cy="1007280"/>
                <a:chOff x="4261680" y="1454400"/>
                <a:chExt cx="4413960" cy="10072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4296240" y="1454400"/>
                  <a:ext cx="4344120" cy="100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字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 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261680" y="1454400"/>
                  <a:ext cx="4413960" cy="100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1228320" y="2462040"/>
                <a:ext cx="1608840" cy="860760"/>
                <a:chOff x="1228320" y="2462040"/>
                <a:chExt cx="1608840" cy="86076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262880" y="2462040"/>
                  <a:ext cx="1539720" cy="86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左右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28320" y="2462040"/>
                  <a:ext cx="1608840" cy="86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2837520" y="2462040"/>
                <a:ext cx="1423800" cy="860760"/>
                <a:chOff x="2837520" y="2462040"/>
                <a:chExt cx="1423800" cy="86076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2872080" y="2462040"/>
                  <a:ext cx="1354680" cy="86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837520" y="2462040"/>
                  <a:ext cx="1423800" cy="86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4261680" y="2462040"/>
                <a:ext cx="4413960" cy="860760"/>
                <a:chOff x="4261680" y="2462040"/>
                <a:chExt cx="4413960" cy="8607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4296240" y="2462040"/>
                  <a:ext cx="4344120" cy="86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汉、湘、结、封、打、顺、信、隹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 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261680" y="2462040"/>
                  <a:ext cx="4413960" cy="86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228320" y="3323520"/>
                <a:ext cx="1608840" cy="860400"/>
                <a:chOff x="1228320" y="3323520"/>
                <a:chExt cx="1608840" cy="8604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262880" y="3323520"/>
                  <a:ext cx="153972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上下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228320" y="3323520"/>
                  <a:ext cx="160884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2837520" y="3323520"/>
                <a:ext cx="1423800" cy="860400"/>
                <a:chOff x="2837520" y="3323520"/>
                <a:chExt cx="1423800" cy="8604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2872080" y="3323520"/>
                  <a:ext cx="135468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837520" y="3323520"/>
                  <a:ext cx="142380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4261680" y="3323520"/>
                <a:ext cx="4413960" cy="860400"/>
                <a:chOff x="4261680" y="3323520"/>
                <a:chExt cx="4413960" cy="86040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4296240" y="3323520"/>
                  <a:ext cx="434412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字、莫、花、华、雷、霞、家、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 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261680" y="3323520"/>
                  <a:ext cx="441396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228320" y="4184280"/>
                <a:ext cx="1608840" cy="860400"/>
                <a:chOff x="1228320" y="4184280"/>
                <a:chExt cx="1608840" cy="86040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262880" y="4184280"/>
                  <a:ext cx="153972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杂合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228320" y="4184280"/>
                  <a:ext cx="160884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837520" y="4184280"/>
                <a:ext cx="1423800" cy="860400"/>
                <a:chOff x="2837520" y="4184280"/>
                <a:chExt cx="1423800" cy="86040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872080" y="4184280"/>
                  <a:ext cx="135468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837520" y="4184280"/>
                  <a:ext cx="142380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4261680" y="4184280"/>
                <a:ext cx="4413960" cy="860400"/>
                <a:chOff x="4261680" y="4184280"/>
                <a:chExt cx="4413960" cy="86040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4296240" y="4184280"/>
                  <a:ext cx="434412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困、凶、这、司、乘、本、无、天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4261680" y="4184280"/>
                  <a:ext cx="441396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2" name=""/>
            <p:cNvSpPr/>
            <p:nvPr/>
          </p:nvSpPr>
          <p:spPr>
            <a:xfrm>
              <a:off x="1219320" y="1447920"/>
              <a:ext cx="7467120" cy="3604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2895840" y="5410080"/>
            <a:ext cx="32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7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汉字的三种字型及其代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五笔字型基本字根及其分布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799920" y="1752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字根键盘的区位分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18600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1363680" y="2971800"/>
          <a:ext cx="641520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2971800"/>
                    <a:ext cx="641520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"/>
          <p:cNvSpPr/>
          <p:nvPr/>
        </p:nvSpPr>
        <p:spPr>
          <a:xfrm>
            <a:off x="2454120" y="5410080"/>
            <a:ext cx="37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1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五笔字型字根键盘区位分配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五笔字型字根总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03364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1143000" y="1828800"/>
          <a:ext cx="74804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4804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914040" y="12189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基本字根的排列规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与键名字根形态相近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字根的首笔代号与其所在的“区号”保持一致外，相当一部分字根的第二笔代号还与其“位号”保持一致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键位代码还表示了组成字根的笔画种类和数目，即：位号与该键位上复合散笔字根的笔画数目保持一致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有少量字根考虑到形相近，字源相同，便于联想，它们分布规律例外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1828440" y="1371240"/>
            <a:ext cx="6134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）字根助记词的理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第一区（横起类）字根助记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王旁青头戋（兼）五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土士二干十寸雨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大犬三羊古石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木丁西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工戈草头右框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019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第二区（竖起类）字根助记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1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目具上止卜虎皮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2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日早两竖与虫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3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口与川，字根稀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4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田甲方框四车力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5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山由贝，下框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999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第三区（撇起类）字根助记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1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禾竹一撇双人立，反文条头共三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2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白手看头三二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3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月彡（衫）乃用家衣底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4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人和八，三四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5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金勺缺点无尾鱼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犬旁留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×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儿一点夕，氏无七（妻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428840" y="1676520"/>
            <a:ext cx="628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第四区（捺起类）字根助记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1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言文方广在四一，高头一捺谁人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2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立辛两点六门疒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3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水旁兴头小倒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4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火业头，四点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5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之字军盖道建底，摘礻（示）衤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键盘的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04880" y="1599840"/>
            <a:ext cx="7734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利用键盘可完成中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提供的所有操作功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4876920"/>
            <a:ext cx="74678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在多窗口操作中，可以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键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键在不同的窗口、对话框选项及按钮之间进行切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8360" y="2422440"/>
            <a:ext cx="7667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当文档窗口或对话框中出现闪烁的插入标记时，直接敲键盘就可输入文字。快捷方式下，同时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键和指定字母，可以启动相应的程序或文件。在菜单操作中，可以通过键盘上的箭头键来改变菜单选项；按回车键来执行相应选项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05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第五区字根（折起类）字根助记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1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已半巳满不出己，左框折尸心和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2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子耳了也框向上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3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女刀九臼山朝西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4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又巴马，丢矢矣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5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慈母无心弓和匕，幼无力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五笔字型汉字折分原则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汉字的结构分析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单：即基本字根本身单独成为一个汉字（成字字根）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散：指构成汉字的基本字根之间保持一定的距离。或汉字由非单笔画组成，字根与字根相连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连：① 指一个基本字根连一单笔画 ；② 连的另一种情况是所谓“带点结构”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交：是指几个基本字根交叉套迭之后构成的汉字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1142640" y="837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汉字图形的末笔字型交叉识别码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46320" y="9934560"/>
          <a:ext cx="11412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6320" y="9934560"/>
                    <a:ext cx="11412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9" name=""/>
          <p:cNvGrpSpPr/>
          <p:nvPr/>
        </p:nvGrpSpPr>
        <p:grpSpPr>
          <a:xfrm>
            <a:off x="1257480" y="1523880"/>
            <a:ext cx="6629040" cy="4579560"/>
            <a:chOff x="1257480" y="1523880"/>
            <a:chExt cx="6629040" cy="4579560"/>
          </a:xfrm>
        </p:grpSpPr>
        <p:grpSp>
          <p:nvGrpSpPr>
            <p:cNvPr id="820" name=""/>
            <p:cNvGrpSpPr/>
            <p:nvPr/>
          </p:nvGrpSpPr>
          <p:grpSpPr>
            <a:xfrm>
              <a:off x="1264680" y="1529640"/>
              <a:ext cx="6613200" cy="4567320"/>
              <a:chOff x="1264680" y="1529640"/>
              <a:chExt cx="6613200" cy="456732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1264680" y="1529640"/>
                <a:ext cx="1710000" cy="866160"/>
                <a:chOff x="1264680" y="1529640"/>
                <a:chExt cx="1710000" cy="86616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1292760" y="1529640"/>
                  <a:ext cx="165384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笔画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\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字型代号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264680" y="1529640"/>
                  <a:ext cx="171000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2975040" y="1529640"/>
                <a:ext cx="1542960" cy="866160"/>
                <a:chOff x="2975040" y="1529640"/>
                <a:chExt cx="1542960" cy="86616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02400" y="1529640"/>
                  <a:ext cx="148716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左右型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2975040" y="1529640"/>
                  <a:ext cx="154296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4518360" y="1529640"/>
                <a:ext cx="1649160" cy="866160"/>
                <a:chOff x="4518360" y="1529640"/>
                <a:chExt cx="1649160" cy="86616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4545720" y="1529640"/>
                  <a:ext cx="159408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上下型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518360" y="1529640"/>
                  <a:ext cx="164916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6167880" y="1529640"/>
                <a:ext cx="1710000" cy="866160"/>
                <a:chOff x="6167880" y="1529640"/>
                <a:chExt cx="1710000" cy="86616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6195960" y="1529640"/>
                  <a:ext cx="165420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杂合型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167880" y="1529640"/>
                  <a:ext cx="171000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1264680" y="2396160"/>
                <a:ext cx="1710000" cy="740160"/>
                <a:chOff x="1264680" y="2396160"/>
                <a:chExt cx="1710000" cy="74016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1292760" y="2396160"/>
                  <a:ext cx="165384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横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264680" y="2396160"/>
                  <a:ext cx="171000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2975040" y="2396160"/>
                <a:ext cx="1542960" cy="740160"/>
                <a:chOff x="2975040" y="2396160"/>
                <a:chExt cx="1542960" cy="74016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3002400" y="2396160"/>
                  <a:ext cx="14871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一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975040" y="2396160"/>
                  <a:ext cx="154296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4518360" y="2396160"/>
                <a:ext cx="1649160" cy="740160"/>
                <a:chOff x="4518360" y="2396160"/>
                <a:chExt cx="1649160" cy="74016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4545720" y="2396160"/>
                  <a:ext cx="159408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二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F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518360" y="2396160"/>
                  <a:ext cx="164916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6167880" y="2396160"/>
                <a:ext cx="1710000" cy="740160"/>
                <a:chOff x="6167880" y="2396160"/>
                <a:chExt cx="1710000" cy="74016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6195960" y="2396160"/>
                  <a:ext cx="165420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三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167880" y="2396160"/>
                  <a:ext cx="171000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1264680" y="3136680"/>
                <a:ext cx="1710000" cy="739440"/>
                <a:chOff x="1264680" y="3136680"/>
                <a:chExt cx="1710000" cy="73944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292760" y="3136680"/>
                  <a:ext cx="16538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竖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264680" y="313668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2975040" y="3136680"/>
                <a:ext cx="1542960" cy="739440"/>
                <a:chOff x="2975040" y="3136680"/>
                <a:chExt cx="1542960" cy="739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3002400" y="3136680"/>
                  <a:ext cx="14871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1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丨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975040" y="3136680"/>
                  <a:ext cx="15429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18360" y="3136680"/>
                <a:ext cx="1649160" cy="739440"/>
                <a:chOff x="4518360" y="3136680"/>
                <a:chExt cx="1649160" cy="73944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545720" y="3136680"/>
                  <a:ext cx="159408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2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刂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J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518360" y="3136680"/>
                  <a:ext cx="16491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6167880" y="3136680"/>
                <a:ext cx="1710000" cy="739440"/>
                <a:chOff x="6167880" y="3136680"/>
                <a:chExt cx="1710000" cy="73944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6195960" y="3136680"/>
                  <a:ext cx="165420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3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川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167880" y="313668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1264680" y="3876840"/>
                <a:ext cx="1710000" cy="739440"/>
                <a:chOff x="1264680" y="3876840"/>
                <a:chExt cx="1710000" cy="73944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1292760" y="3876840"/>
                  <a:ext cx="16538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撇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264680" y="387684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2975040" y="3876840"/>
                <a:ext cx="1542960" cy="739440"/>
                <a:chOff x="2975040" y="3876840"/>
                <a:chExt cx="1542960" cy="73944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3002400" y="3876840"/>
                  <a:ext cx="14871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1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丿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975040" y="3876840"/>
                  <a:ext cx="15429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4518360" y="3876840"/>
                <a:ext cx="1649160" cy="739440"/>
                <a:chOff x="4518360" y="3876840"/>
                <a:chExt cx="1649160" cy="73944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4545720" y="3876840"/>
                  <a:ext cx="159408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2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斤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518360" y="3876840"/>
                  <a:ext cx="16491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6167880" y="3876840"/>
                <a:ext cx="1710000" cy="739440"/>
                <a:chOff x="6167880" y="3876840"/>
                <a:chExt cx="1710000" cy="73944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6195960" y="3876840"/>
                  <a:ext cx="165420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3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彡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167880" y="387684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1264680" y="4616640"/>
                <a:ext cx="1710000" cy="739440"/>
                <a:chOff x="1264680" y="4616640"/>
                <a:chExt cx="1710000" cy="73944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1292760" y="4616640"/>
                  <a:ext cx="16538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捺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264680" y="461664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2975040" y="4616640"/>
                <a:ext cx="1542960" cy="739440"/>
                <a:chOff x="2975040" y="4616640"/>
                <a:chExt cx="1542960" cy="73944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3002400" y="4616640"/>
                  <a:ext cx="14871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1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丶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Y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975040" y="4616640"/>
                  <a:ext cx="15429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4518360" y="4616640"/>
                <a:ext cx="1649160" cy="739440"/>
                <a:chOff x="4518360" y="4616640"/>
                <a:chExt cx="1649160" cy="73944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4545720" y="4616640"/>
                  <a:ext cx="159408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2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冫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18360" y="4616640"/>
                  <a:ext cx="16491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6167880" y="4616640"/>
                <a:ext cx="1710000" cy="739440"/>
                <a:chOff x="6167880" y="4616640"/>
                <a:chExt cx="1710000" cy="739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6195960" y="4616640"/>
                  <a:ext cx="165420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3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氵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167880" y="461664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1264680" y="5356800"/>
                <a:ext cx="1710000" cy="740160"/>
                <a:chOff x="1264680" y="5356800"/>
                <a:chExt cx="1710000" cy="74016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1292760" y="5356800"/>
                  <a:ext cx="165384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折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264680" y="5356800"/>
                  <a:ext cx="171000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2975040" y="5356800"/>
                <a:ext cx="1542960" cy="740160"/>
                <a:chOff x="2975040" y="5356800"/>
                <a:chExt cx="1542960" cy="74016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3002400" y="5356800"/>
                  <a:ext cx="14871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1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乙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975040" y="5356800"/>
                  <a:ext cx="154296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" name=""/>
              <p:cNvGrpSpPr/>
              <p:nvPr/>
            </p:nvGrpSpPr>
            <p:grpSpPr>
              <a:xfrm>
                <a:off x="4518360" y="5356800"/>
                <a:ext cx="1649160" cy="740160"/>
                <a:chOff x="4518360" y="5356800"/>
                <a:chExt cx="1649160" cy="74016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4545720" y="5356800"/>
                  <a:ext cx="159408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2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   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518360" y="5356800"/>
                  <a:ext cx="164916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6167880" y="5356800"/>
                <a:ext cx="1710000" cy="740160"/>
                <a:chOff x="6167880" y="5356800"/>
                <a:chExt cx="1710000" cy="74016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6195960" y="5356800"/>
                  <a:ext cx="165420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3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巛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V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167880" y="5356800"/>
                  <a:ext cx="171000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3" name=""/>
            <p:cNvSpPr/>
            <p:nvPr/>
          </p:nvSpPr>
          <p:spPr>
            <a:xfrm>
              <a:off x="1257480" y="1523880"/>
              <a:ext cx="6629040" cy="4579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51476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5105520" y="5410080"/>
          <a:ext cx="24444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410080"/>
                    <a:ext cx="244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单体结构拆分原则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连笔结构：拆成为单笔与基本字根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交叉结构或交连混合结构：按书写顺序拆分成为几个已知的最大字根，以增加一笔不能构成已知字根来决定笔画分组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拆分四句口诀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能散不连，兼顾直观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能连不交，取大优先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单个汉字的编码输入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单个汉字的编码规则为：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五笔字型均直观，依照笔顺把码编；键名汉字打四下，基本字根请照搬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二三末取四码，顺序拆分大优先；不足四码要注意，交叉识别补后边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简码的输入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一级简码（又称高频字）的输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二级简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三级简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20040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1295280" y="1752480"/>
          <a:ext cx="7315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7315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4034880" y="4876920"/>
            <a:ext cx="17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3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五笔字型一级简码汉字键位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词汇的输入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895120" y="220968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双字词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）三字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四字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多字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Times New Roman"/>
              <a:ea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799920" y="2209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重码的输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1143000" y="3127320"/>
            <a:ext cx="7314840" cy="2205720"/>
            <a:chOff x="1143000" y="3127320"/>
            <a:chExt cx="7314840" cy="2205720"/>
          </a:xfrm>
        </p:grpSpPr>
        <p:grpSp>
          <p:nvGrpSpPr>
            <p:cNvPr id="915" name=""/>
            <p:cNvGrpSpPr/>
            <p:nvPr/>
          </p:nvGrpSpPr>
          <p:grpSpPr>
            <a:xfrm>
              <a:off x="1150560" y="3144240"/>
              <a:ext cx="7299000" cy="2170440"/>
              <a:chOff x="1150560" y="3144240"/>
              <a:chExt cx="7299000" cy="2170440"/>
            </a:xfrm>
          </p:grpSpPr>
          <p:sp>
            <p:nvSpPr>
              <p:cNvPr id="916" name=""/>
              <p:cNvSpPr/>
              <p:nvPr/>
            </p:nvSpPr>
            <p:spPr>
              <a:xfrm>
                <a:off x="1179720" y="3144240"/>
                <a:ext cx="7240680" cy="21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半角　【五笔字型】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tmjt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　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徽　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微　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：徵　【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000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】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150560" y="3144240"/>
                <a:ext cx="7299000" cy="217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1143000" y="3127320"/>
              <a:ext cx="7314840" cy="2205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1b60f"/>
                </a:solidFill>
                <a:latin typeface="Arial"/>
                <a:ea typeface="黑体"/>
              </a:rPr>
              <a:t>2.2.2    </a:t>
            </a:r>
            <a:r>
              <a:rPr b="1" lang="zh-CN" sz="2600" spc="-1" strike="noStrike">
                <a:solidFill>
                  <a:srgbClr val="f1b60f"/>
                </a:solidFill>
                <a:latin typeface="Arial"/>
                <a:ea typeface="黑体"/>
              </a:rPr>
              <a:t>中文</a:t>
            </a:r>
            <a:r>
              <a:rPr b="1" lang="zh-CN" sz="2600" spc="-1" strike="noStrike">
                <a:solidFill>
                  <a:srgbClr val="f1b60f"/>
                </a:solidFill>
                <a:latin typeface="Arial"/>
                <a:ea typeface="黑体"/>
              </a:rPr>
              <a:t>Windows 98</a:t>
            </a:r>
            <a:r>
              <a:rPr b="1" lang="zh-CN" sz="2600" spc="-1" strike="noStrike">
                <a:solidFill>
                  <a:srgbClr val="f1b60f"/>
                </a:solidFill>
                <a:latin typeface="Arial"/>
                <a:ea typeface="黑体"/>
              </a:rPr>
              <a:t>的桌面简介</a:t>
            </a:r>
            <a:endParaRPr b="0" lang="en-US" sz="2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957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2－3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8288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700040" y="1715400"/>
            <a:ext cx="4852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7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Windows 98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的桌面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宋体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学习键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的使用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在计算机的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个英文字母键上，只有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键没有安排字根。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键叫“万能学习键”，用它代替其他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个字母键中任何一个键输入汉字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7.1    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CD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播放器和编程播放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CD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音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2.7.2   录音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7    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多媒体技术的应用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1752480" y="205740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多媒体技术的应用特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完善的即插即用功能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自动播放功能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数字视频的内置支持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播放器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VD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播放器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7.1    CD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播放器和编程播放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CD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音乐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981080" y="2362320"/>
            <a:ext cx="5181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播放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编程播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CD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音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2241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438280" y="1824120"/>
            <a:ext cx="5005440" cy="336060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2991960" y="510552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4    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播放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3433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6" name="3172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276800" cy="338148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2968200" y="5334120"/>
            <a:ext cx="37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5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编程播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音乐对话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7.2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录音机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971440" y="2362320"/>
            <a:ext cx="472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录音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放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声音文件的编辑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66696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019840" cy="274788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3483360" y="5029200"/>
            <a:ext cx="30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6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录音机”程序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85272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7" name="18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648320" cy="347832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2733120" y="4800600"/>
            <a:ext cx="36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7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录音机”窗口“编辑”菜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416960" y="1143000"/>
            <a:ext cx="630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very much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1" name="0417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4572000" cy="316872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461520" y="2286000"/>
            <a:ext cx="2008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本章到此为止，谢谢您的光临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常用图标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61960" y="2286000"/>
            <a:ext cx="518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“我的电脑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“我的公文包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“回收站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“网上邻居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“收件箱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“开始”菜单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２－８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647960" cy="4081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443000" y="2086560"/>
            <a:ext cx="637200" cy="41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2-8   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开始”菜单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“任务栏”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一般位于桌面最下一行，也可用鼠标拖动到桌面的左、右边和上面。当打开程序、文档或窗口后，在“任务栏”上就会出现一个相应的按钮。如果要切换窗口，只需单击该窗口的按钮即可。关闭一个窗口后，其按钮也从“任务栏”上消失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“输入法”按钮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528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4－1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038480" cy="3664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349680" y="1933560"/>
            <a:ext cx="10386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9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法”按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“时钟”按钮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241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4－2" descr=""/>
          <p:cNvPicPr/>
          <p:nvPr/>
        </p:nvPicPr>
        <p:blipFill>
          <a:blip r:embed="rId1"/>
          <a:stretch/>
        </p:blipFill>
        <p:spPr>
          <a:xfrm>
            <a:off x="2076480" y="1905120"/>
            <a:ext cx="4991040" cy="3544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173760" y="5715000"/>
            <a:ext cx="24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10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时钟”按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“快速启动”按钮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54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4－3" descr=""/>
          <p:cNvPicPr/>
          <p:nvPr/>
        </p:nvPicPr>
        <p:blipFill>
          <a:blip r:embed="rId1"/>
          <a:stretch/>
        </p:blipFill>
        <p:spPr>
          <a:xfrm>
            <a:off x="2052720" y="2708280"/>
            <a:ext cx="5038560" cy="1440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60040" y="4952880"/>
            <a:ext cx="382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2-11   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常用“快速启动”按钮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609588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3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2.2.3    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Windows 98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的窗口与对话框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992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．窗口的基本操作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移动窗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改变窗口大小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移动窗口的内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最小化、最大化、还原和关闭按钮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窗口的切换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1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1.1    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的功能和特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2.1.2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7" action="ppaction://hlinksldjump"/>
              </a:rPr>
              <a:t>的运行环境与安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8" action="ppaction://hlinksldjump"/>
              </a:rPr>
              <a:t>2.1.3    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9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10" action="ppaction://hlinksldjump"/>
              </a:rPr>
              <a:t>的启动和退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74320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71560" y="1066680"/>
            <a:ext cx="5600880" cy="4025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21800" y="5562720"/>
            <a:ext cx="40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12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indows  9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的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对话框的基本操作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标题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标签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列表框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复选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单选按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6680" y="2743200"/>
            <a:ext cx="206784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命令按钮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文本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帮助按钮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数值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13848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13160" y="1260360"/>
            <a:ext cx="4117680" cy="4337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290720" y="1329120"/>
            <a:ext cx="6372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2-13   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对话框窗口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601992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3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2.2.4    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Windows  98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的菜单和工具栏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菜单的主要操作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打开菜单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消除菜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工具栏的主要操作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显示工具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使用工具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2.2.5    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剪贴板（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Clipboard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）的使用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将信息复制到剪贴板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从剪贴板中粘贴信息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2.6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帮助系统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99920" y="1828440"/>
            <a:ext cx="7886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单击“开始”菜单中的“帮助”命令获得帮助信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从对话框的帮助按钮获得帮助信息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从应用程序的“帮助”菜单获得帮助信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利用鼠标右键获得“帮助”信息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显示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MS-DOS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命令的帮助信息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从“欢迎进入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Windows 98”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向导获得帮助信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718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７－４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800600" cy="4113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927520" y="5562720"/>
            <a:ext cx="40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18    Windows 9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帮助窗口中的搜索标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7188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７－８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14680" y="990720"/>
            <a:ext cx="5295600" cy="3832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133720" y="51814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22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欢迎进入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Windows  9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向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3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3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资源管理器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57120" y="228600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3.1 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的资源管理器			 窗口及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2.3.2    文件和文件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2.3.3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文件和文件夹的操作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7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2.3.1 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Windows 98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的资源管理器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 窗口及使用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576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８－２" descr=""/>
          <p:cNvPicPr/>
          <p:nvPr/>
        </p:nvPicPr>
        <p:blipFill>
          <a:blip r:embed="rId1"/>
          <a:stretch/>
        </p:blipFill>
        <p:spPr>
          <a:xfrm>
            <a:off x="1781280" y="2133720"/>
            <a:ext cx="5581440" cy="3271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320560" y="5638680"/>
            <a:ext cx="45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23    Windows 9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的资源管理器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992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  <a:ea typeface="黑体"/>
              </a:rPr>
              <a:t>2.1.1    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中文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  <a:ea typeface="黑体"/>
              </a:rPr>
              <a:t>Windows 98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的功能和特点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4267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更具创新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使用更简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连接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桌面浏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强大的联机通信功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362320"/>
            <a:ext cx="4267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速度更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支持更大的存储空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可靠性更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更具娱乐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支持新硬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自定义选项更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工具栏的显示和隐藏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9920" y="175248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若资源管理器窗口没有显示工具栏，单击“查看”菜单，执行“工具栏”子菜单上“标准按钮”命令即可显示工具栏。再次执行“查看”→“工具栏”→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“标准按钮”命令，将关闭或打开工具栏，如下图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2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所示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８－１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727704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9992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工具栏的使用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后退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前进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向上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剪切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复制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2362320"/>
            <a:ext cx="3657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粘贴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撤消”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删除”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属性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查看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改变左、右窗格的大小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用鼠标拖动左、右窗格之间的分隔条，就可改变左、右窗格的大小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3.2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文件和文件夹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99920" y="160020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文件是一组相关信息的集合，由文件名标识进行区别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3733920"/>
            <a:ext cx="71625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磁盘是存储信息的设备，一个磁盘上通常存储了大量的文件。为了便于管理，将相关文件分类后存放在不同的目录中。这些目录在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Windows  98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中称为文件夹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文件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文件命名规则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中文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Windows 98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允许使用长文件名，即文件名或文件夹名最多可使用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255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个字符；这些字符可以是字母、空格、数字、汉字或一些特定符号；英文字母不区分大小写；但不能有以下括号中列出的一些符号（”  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|    \    &lt;    &gt;    *    /    :    ?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文件名与</a:t>
            </a: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S-DOS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文件名转换规则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如果文件主名不多于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个字符时，就直接将其转换为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文件名；否则取其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个字符，加字符“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，再加一个数字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如果长文件名中有英文字母，转换为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文件名时全变为大写字母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如果长文件名中包含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文件名规定的非法字符，如多个间隔符“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.”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和空格等，转换后这些非法字符将被去掉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文件夹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971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 98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按树型结构以文件夹的形式来组织和管理文件。如右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2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所示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74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９－１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276720" cy="304776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rId2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3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3.3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文件和文件夹的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43040" y="190512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文件和文件夹的选定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选定单个文件或文件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选定多个连续的文件或文件夹方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选定多个不连续的文件或文件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）选定全部文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或文件夹的重命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先选定需重命名的文件或文件夹，然后单击“文件”菜单，执行“重命名”命令，这时选定的文件或文件夹的文件名被加上了方框，原文件名呈反色显示，变成闪烁的光标，这时键入新的文件名后按回车键即可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或文件夹的删除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先选定想删除的文件或文件夹，单击“文件”菜单，执行“删除”命令，或直接按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键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Arial"/>
                <a:ea typeface="黑体"/>
              </a:rPr>
              <a:t>2.1.2    </a:t>
            </a:r>
            <a:r>
              <a:rPr b="1" lang="zh-CN" sz="2800" spc="-1" strike="noStrike">
                <a:solidFill>
                  <a:srgbClr val="f1b60f"/>
                </a:solidFill>
                <a:latin typeface="Arial"/>
                <a:ea typeface="黑体"/>
              </a:rPr>
              <a:t>中文</a:t>
            </a:r>
            <a:r>
              <a:rPr b="1" lang="zh-CN" sz="2800" spc="-1" strike="noStrike">
                <a:solidFill>
                  <a:srgbClr val="f1b60f"/>
                </a:solidFill>
                <a:latin typeface="Arial"/>
                <a:ea typeface="黑体"/>
              </a:rPr>
              <a:t>Windows 98</a:t>
            </a:r>
            <a:r>
              <a:rPr b="1" lang="zh-CN" sz="2800" spc="-1" strike="noStrike">
                <a:solidFill>
                  <a:srgbClr val="f1b60f"/>
                </a:solidFill>
                <a:latin typeface="Arial"/>
                <a:ea typeface="黑体"/>
              </a:rPr>
              <a:t>的运行环境与安装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中文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运行环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中文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的安装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或文件夹的复制与移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文件或文件夹的复制与移动常用方法有如下几种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鼠标拖放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粘贴法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发送法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7656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９－４" descr=""/>
          <p:cNvPicPr/>
          <p:nvPr/>
        </p:nvPicPr>
        <p:blipFill>
          <a:blip r:embed="rId1"/>
          <a:stretch/>
        </p:blipFill>
        <p:spPr>
          <a:xfrm>
            <a:off x="2311560" y="1371600"/>
            <a:ext cx="4519440" cy="3657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965320" y="541008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27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文件或文件夹的移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241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９－５" descr=""/>
          <p:cNvPicPr/>
          <p:nvPr/>
        </p:nvPicPr>
        <p:blipFill>
          <a:blip r:embed="rId1"/>
          <a:stretch/>
        </p:blipFill>
        <p:spPr>
          <a:xfrm>
            <a:off x="1776240" y="1447920"/>
            <a:ext cx="5589720" cy="3395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115080" y="533412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28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发送到”命令菜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142640" y="1219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查看、设置文件或文件夹的属性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7196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９－６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3733920" cy="35942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349680" y="2165760"/>
            <a:ext cx="1038600" cy="38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29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属性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及文件夹的查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执行“查找”命令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设置查找条件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执行查找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876560" cy="4038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749680" y="5638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0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用快捷菜单执行“查找”命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5296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９－８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36640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365560" y="5410080"/>
            <a:ext cx="44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1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查找”对话框中的“名称和位置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976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９－９" descr=""/>
          <p:cNvPicPr/>
          <p:nvPr/>
        </p:nvPicPr>
        <p:blipFill>
          <a:blip r:embed="rId1"/>
          <a:stretch/>
        </p:blipFill>
        <p:spPr>
          <a:xfrm>
            <a:off x="1447920" y="1671480"/>
            <a:ext cx="6852960" cy="3667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842560" y="5638680"/>
            <a:ext cx="39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2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查找”对话框中的“日期”标签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196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９－３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191200" cy="27892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108960" y="5105520"/>
            <a:ext cx="40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3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查找”对话框中的“高级”标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808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3-1" descr=""/>
          <p:cNvPicPr/>
          <p:nvPr/>
        </p:nvPicPr>
        <p:blipFill>
          <a:blip r:embed="rId1"/>
          <a:stretch/>
        </p:blipFill>
        <p:spPr>
          <a:xfrm>
            <a:off x="2290680" y="1295280"/>
            <a:ext cx="4562640" cy="3886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640320" y="5486400"/>
            <a:ext cx="18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4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查找某一文件或文件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中文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的运行环境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6DX/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内存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硬盘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0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剩余空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软驱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英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显示器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0 VG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最佳配置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TIU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或更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33920" y="1752480"/>
            <a:ext cx="451008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内存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以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硬盘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0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以上剩余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软驱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英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光驱：八倍速以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D-RO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V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显示器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或分辨率更高的监视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鼠标器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icrosoft Mouse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或兼容类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打印机一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799920" y="11426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创建新的文件夹或空文件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３－６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495680" cy="3654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318440" y="1882080"/>
            <a:ext cx="546120" cy="43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5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新建”命令菜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34800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３－４" descr=""/>
          <p:cNvPicPr/>
          <p:nvPr/>
        </p:nvPicPr>
        <p:blipFill>
          <a:blip r:embed="rId1"/>
          <a:stretch/>
        </p:blipFill>
        <p:spPr>
          <a:xfrm>
            <a:off x="1236600" y="1447920"/>
            <a:ext cx="6670800" cy="3373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278520" y="5257800"/>
            <a:ext cx="25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6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新建的文件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957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３－７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556320" cy="28591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225240" y="5029200"/>
            <a:ext cx="26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7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创建新的空文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创建文件快捷方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67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３－９" descr=""/>
          <p:cNvPicPr/>
          <p:nvPr/>
        </p:nvPicPr>
        <p:blipFill>
          <a:blip r:embed="rId1"/>
          <a:stretch/>
        </p:blipFill>
        <p:spPr>
          <a:xfrm>
            <a:off x="2209680" y="1936800"/>
            <a:ext cx="4724640" cy="3136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204720" y="5334120"/>
            <a:ext cx="27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8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创建快捷方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6708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３－１０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091120" cy="3400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319200" y="5334120"/>
            <a:ext cx="32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9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创建快捷方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3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4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控制面板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523520" y="236232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4.1   中文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Windows 98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的控制面板的基本操作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2.4.2    添加新硬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2.4.3    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安装和删除应用程序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7" action="ppaction://hlinksldjump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7624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4.1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控制面板的基本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90052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1-0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36525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71800" y="5562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40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控制面板”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762120" y="99036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设置日期和时间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2892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1-1" descr=""/>
          <p:cNvPicPr/>
          <p:nvPr/>
        </p:nvPicPr>
        <p:blipFill>
          <a:blip r:embed="rId1"/>
          <a:stretch/>
        </p:blipFill>
        <p:spPr>
          <a:xfrm>
            <a:off x="685800" y="2135160"/>
            <a:ext cx="3886200" cy="2739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33360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1-2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733920" cy="2641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959040" y="5257800"/>
            <a:ext cx="32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41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日期和时间”标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81480" y="4648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4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时区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438280" y="1981080"/>
            <a:ext cx="495324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背景”标签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“屏幕保护程序”标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“外观”标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“效果”标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标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“设置”标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器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背景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选择墙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选择图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3376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" name="1-4" descr=""/>
          <p:cNvPicPr/>
          <p:nvPr/>
        </p:nvPicPr>
        <p:blipFill>
          <a:blip r:embed="rId1"/>
          <a:stretch/>
        </p:blipFill>
        <p:spPr>
          <a:xfrm>
            <a:off x="4572000" y="2314440"/>
            <a:ext cx="4114800" cy="23799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344560" y="518148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44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案”列表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9920" y="914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．中文</a:t>
            </a:r>
            <a:r>
              <a:rPr b="1" lang="zh-CN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的安装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Windows 98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可以从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MS-DOS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操作系统下安装，也可以从现有的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Windows 3.X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或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Windows 95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操作系统升级安装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Windows 98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的安装过程非常简单，安装步骤略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99920" y="914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屏幕保护程序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1488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1-5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726000" cy="37958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784920" y="1391400"/>
            <a:ext cx="546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45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屏幕保护程序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805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外观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1-7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3971880" cy="4077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708600" y="1960200"/>
            <a:ext cx="5461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47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外观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79992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效果”标签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8616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1-8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3566880" cy="36525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632640" y="2142360"/>
            <a:ext cx="54612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48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效果”标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482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1-9" descr=""/>
          <p:cNvPicPr/>
          <p:nvPr/>
        </p:nvPicPr>
        <p:blipFill>
          <a:blip r:embed="rId1"/>
          <a:stretch/>
        </p:blipFill>
        <p:spPr>
          <a:xfrm>
            <a:off x="2994120" y="1371600"/>
            <a:ext cx="3155760" cy="3448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438280" y="52578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4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更改图标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799920" y="9907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0516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1-10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3848040" cy="3862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708600" y="2296800"/>
            <a:ext cx="54612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-50   “Web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799920" y="9907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设置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86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1-11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3610080" cy="3709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708600" y="2063880"/>
            <a:ext cx="54612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-51   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设置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设置“键盘”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99920" y="1599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速度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语言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14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３４－１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3098880" cy="32004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41460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３４－２" descr=""/>
          <p:cNvPicPr/>
          <p:nvPr/>
        </p:nvPicPr>
        <p:blipFill>
          <a:blip r:embed="rId2"/>
          <a:stretch/>
        </p:blipFill>
        <p:spPr>
          <a:xfrm>
            <a:off x="5181480" y="1066680"/>
            <a:ext cx="3407040" cy="350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546160" y="5029200"/>
            <a:ext cx="27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2-53  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键盘属性中的“语言”标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79600" y="1996560"/>
            <a:ext cx="786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2-52  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键盘属性中的“速度”标签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f1b60f"/>
                </a:solidFill>
                <a:latin typeface="宋体"/>
              </a:rPr>
              <a:t>．设置“鼠标”</a:t>
            </a:r>
            <a:r>
              <a:rPr b="0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按钮”标签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指针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移动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2432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３４－３" descr=""/>
          <p:cNvPicPr/>
          <p:nvPr/>
        </p:nvPicPr>
        <p:blipFill>
          <a:blip r:embed="rId1"/>
          <a:stretch/>
        </p:blipFill>
        <p:spPr>
          <a:xfrm>
            <a:off x="4876920" y="1562040"/>
            <a:ext cx="3792240" cy="3886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393160" y="5715000"/>
            <a:ext cx="29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54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鼠标属性中的“按钮”标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422" name="３４－４" descr=""/>
          <p:cNvPicPr/>
          <p:nvPr/>
        </p:nvPicPr>
        <p:blipFill>
          <a:blip r:embed="rId1"/>
          <a:stretch/>
        </p:blipFill>
        <p:spPr>
          <a:xfrm>
            <a:off x="1335240" y="1600200"/>
            <a:ext cx="3236760" cy="33289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41460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未标题-1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407040" cy="35049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248120" y="5638680"/>
            <a:ext cx="31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55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鼠标属性中的“指针”标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66160" y="5181480"/>
            <a:ext cx="31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56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鼠标属性中的“移动”标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>
            <a:hlinkClick r:id="rId3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4.2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添加新硬件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99920" y="1676520"/>
            <a:ext cx="7886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在确认硬件已经正确连接或已将其组件安装到计算机上后，双击“控制面板”中的“添加新硬件”图标，出现如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57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所示的对话框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051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３５－１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4114800" cy="2763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870880" y="3733920"/>
            <a:ext cx="109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57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添加新硬件向导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08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  <a:ea typeface="黑体"/>
              </a:rPr>
              <a:t>2.1.3    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中文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  <a:ea typeface="黑体"/>
              </a:rPr>
              <a:t>Windows 98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的启动和退出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中文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indows 98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启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中文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退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4.3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安装和删除应用程序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057400" y="2286000"/>
            <a:ext cx="6019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“安装／卸载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安装应用程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删除应用程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“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Windows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安装程序”标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“启动盘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．“安装／卸载”标签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438" name="３８１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3449880" cy="39718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785640" y="1872000"/>
            <a:ext cx="485280" cy="41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58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安装／卸载”标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．“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Windows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安装程序”标签 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7168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3" name="３９１" descr=""/>
          <p:cNvPicPr/>
          <p:nvPr/>
        </p:nvPicPr>
        <p:blipFill>
          <a:blip r:embed="rId1"/>
          <a:stretch/>
        </p:blipFill>
        <p:spPr>
          <a:xfrm>
            <a:off x="838080" y="2295360"/>
            <a:ext cx="3733920" cy="24195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685800" y="53341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59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运行安装程序”对话框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1000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３９２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2998800" cy="36576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800600" y="57150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6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安装程序”标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．“启动盘”标签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526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３９３" descr=""/>
          <p:cNvPicPr/>
          <p:nvPr/>
        </p:nvPicPr>
        <p:blipFill>
          <a:blip r:embed="rId1"/>
          <a:stretch/>
        </p:blipFill>
        <p:spPr>
          <a:xfrm>
            <a:off x="1752480" y="2192400"/>
            <a:ext cx="5791320" cy="26240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600200" y="52578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6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启动盘”标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5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附件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5.1   写字板的基本操作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2.5.2    画图的基本操作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5.1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写字板的基本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324160" y="236232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写字板的启动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文档的制作与编辑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打开和保存文档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写字板的启动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3860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0" name="３１０１" descr=""/>
          <p:cNvPicPr/>
          <p:nvPr/>
        </p:nvPicPr>
        <p:blipFill>
          <a:blip r:embed="rId1"/>
          <a:stretch/>
        </p:blipFill>
        <p:spPr>
          <a:xfrm>
            <a:off x="1828800" y="2300400"/>
            <a:ext cx="6305400" cy="24080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209680" y="51814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写字板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文档的制作与编辑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476440" y="228600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输入字符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插入字符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删除字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打开和保存文档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打开文档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9564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３１０２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410080" cy="27907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7180560" y="3124080"/>
            <a:ext cx="127764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打开”命令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３１０４" descr=""/>
          <p:cNvPicPr/>
          <p:nvPr/>
        </p:nvPicPr>
        <p:blipFill>
          <a:blip r:embed="rId1"/>
          <a:stretch/>
        </p:blipFill>
        <p:spPr>
          <a:xfrm>
            <a:off x="1160640" y="1744560"/>
            <a:ext cx="6821280" cy="35197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752480" y="54864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另存为”命令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53600" y="914400"/>
            <a:ext cx="20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保存文档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2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基本知识与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992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2.1    鼠标与键盘的操作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2.2.2    中文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Windows 98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的桌面简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2.2.3    中文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Windows 98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7" action="ppaction://hlinksldjump"/>
              </a:rPr>
              <a:t>的窗口与对话框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8" action="ppaction://hlinksldjump"/>
              </a:rPr>
              <a:t>2.2.4    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9" action="ppaction://hlinksldjump"/>
              </a:rPr>
              <a:t>中文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0" action="ppaction://hlinksldjump"/>
              </a:rPr>
              <a:t>Windows  98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1" action="ppaction://hlinksldjump"/>
              </a:rPr>
              <a:t>的菜单和工具栏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2" action="ppaction://hlinksldjump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3" action="ppaction://hlinksldjump"/>
              </a:rPr>
              <a:t>2.2.5    剪贴板（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4" action="ppaction://hlinksldjump"/>
              </a:rPr>
              <a:t>Clipboard）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5" action="ppaction://hlinksldjump"/>
              </a:rPr>
              <a:t>的使用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6" action="ppaction://hlinksldjump"/>
              </a:rPr>
              <a:t>2.2.6    中文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7" action="ppaction://hlinksldjump"/>
              </a:rPr>
              <a:t>Windows 98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8" action="ppaction://hlinksldjump"/>
              </a:rPr>
              <a:t>的帮助系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9" action="ppaction://hlinksldjump"/>
          </p:cNvPr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0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5.2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画图的基本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438280" y="2514600"/>
            <a:ext cx="510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画图”程序的启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创建简单图形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860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7440" y="1685880"/>
            <a:ext cx="4567320" cy="3637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790640" y="54864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画图”程序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1957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770120" y="1600200"/>
            <a:ext cx="5603760" cy="31035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482" name=""/>
          <p:cNvSpPr/>
          <p:nvPr/>
        </p:nvSpPr>
        <p:spPr>
          <a:xfrm>
            <a:off x="3407760" y="5334120"/>
            <a:ext cx="23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6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画图工具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6    Windows 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输入法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6.1   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添加和删除中文输入法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2.6.2   输入法的选定与切换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2.6.3   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拼音输入法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7" action="ppaction://hlinksldjump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8" action="ppaction://hlinksldjump"/>
              </a:rPr>
              <a:t>2.6.4    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9" action="ppaction://hlinksldjump"/>
              </a:rPr>
              <a:t>五笔字型输入法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10" action="ppaction://hlinksldjump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2.6.1   </a:t>
            </a:r>
            <a:r>
              <a:rPr b="0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添加和删除中文输入法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133720" y="2590920"/>
            <a:ext cx="4876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添加中文输入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删除中文输入法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37644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３１１１" descr=""/>
          <p:cNvPicPr/>
          <p:nvPr/>
        </p:nvPicPr>
        <p:blipFill>
          <a:blip r:embed="rId1"/>
          <a:stretch/>
        </p:blipFill>
        <p:spPr>
          <a:xfrm>
            <a:off x="2367000" y="1066680"/>
            <a:ext cx="4408560" cy="40928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400480" y="5562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法属性”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1964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709640" y="1905120"/>
            <a:ext cx="5724720" cy="26254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950200" y="5029200"/>
            <a:ext cx="32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8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添加输入法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2.6.2   </a:t>
            </a:r>
            <a:r>
              <a:rPr b="0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输入法的选定与切换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4953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输入法的选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输入法的切换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３１１４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4114800" cy="11998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74796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3229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886200" cy="1303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1406160" y="5257800"/>
            <a:ext cx="25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9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法菜单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2240" y="5257800"/>
            <a:ext cx="32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0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五笔型输入法状态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6.3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拼音输入法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971800" y="236232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拼音输入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智能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输入法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拼音输入法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9992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单字输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在全拼音输入状态下，用字母键（字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代表拼音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ü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逐个输入汉字的拼音字母，屏幕底行显示同音汉字，用户可按数字键选择其中的汉字，对于提示行中的第一个汉字，可按空格键确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词组输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在全拼音输入时，可像输入单字一样完整输入词组。如输入“中文”词组，用户可完整输入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zhongwen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2.1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鼠标与键盘的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鼠标的基本操作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单击（单击左键）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单击右键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指向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拖动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双击（双击左键）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845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２－１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1447560" cy="1676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3184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２－３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1515960" cy="1692000"/>
          </a:xfrm>
          <a:prstGeom prst="rect">
            <a:avLst/>
          </a:prstGeom>
          <a:ln w="0">
            <a:noFill/>
          </a:ln>
        </p:spPr>
      </p:pic>
      <p:pic>
        <p:nvPicPr>
          <p:cNvPr id="114" name="２－２" descr=""/>
          <p:cNvPicPr/>
          <p:nvPr/>
        </p:nvPicPr>
        <p:blipFill>
          <a:blip r:embed="rId3"/>
          <a:stretch/>
        </p:blipFill>
        <p:spPr>
          <a:xfrm>
            <a:off x="7238880" y="3733920"/>
            <a:ext cx="1586160" cy="1752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25400" y="1687680"/>
            <a:ext cx="85356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4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单击左键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5440" y="5791320"/>
            <a:ext cx="18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5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单击右键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3760" y="5791320"/>
            <a:ext cx="159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6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双击左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．智能</a:t>
            </a:r>
            <a:r>
              <a:rPr b="1" lang="zh-CN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BC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输入法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对于不同的用户，智能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输入法提供了“标准”和“双打”两种方式。单击“标准”输入法按钮，可切换到“双打”方式，再单击“双打”可切换到“标准”方式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在“标准”方式下，可用全拼、简拼、混拼、笔形、混合等输入方式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全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规则：按规范的汉语拼音输入，输入过程和书写汉语拼音的过程完全一致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例如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  xiang  wei  qi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'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e  mama  dian   yi  zhi    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亲爱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妈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注意：单字输入时，韵母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ü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要用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代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799920" y="12949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简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规则：取各个音节的第一个字母组成，对于包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z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sh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知、吃、诗）的音节，也可以取前两个字母组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例如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汉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全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简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算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suanji         js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长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cheng      cc   cc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914040" y="140976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混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混拼即两个音节以上的词语输入时，有的音节全拼，有的音节简拼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例如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汉字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全拼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混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金沙江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nshangjiang      jinsj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haj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笔形输入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笔形输入法是一种形码输入，对拼音不准或不认识的字可使用形码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在智能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系统汉字“形”的元素，按照基本的笔划形状共分为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类。如下表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所示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1066680" y="533520"/>
            <a:ext cx="7314840" cy="5562360"/>
            <a:chOff x="1066680" y="533520"/>
            <a:chExt cx="7314840" cy="5562360"/>
          </a:xfrm>
        </p:grpSpPr>
        <p:grpSp>
          <p:nvGrpSpPr>
            <p:cNvPr id="519" name=""/>
            <p:cNvGrpSpPr/>
            <p:nvPr/>
          </p:nvGrpSpPr>
          <p:grpSpPr>
            <a:xfrm>
              <a:off x="1072440" y="537840"/>
              <a:ext cx="7302240" cy="5552640"/>
              <a:chOff x="1072440" y="537840"/>
              <a:chExt cx="7302240" cy="555264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1072440" y="537840"/>
                <a:ext cx="960840" cy="675000"/>
                <a:chOff x="1072440" y="537840"/>
                <a:chExt cx="960840" cy="6750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1159560" y="537840"/>
                  <a:ext cx="7866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笔形代码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072440" y="537840"/>
                  <a:ext cx="96084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033640" y="537840"/>
                <a:ext cx="1026360" cy="675000"/>
                <a:chOff x="2033640" y="537840"/>
                <a:chExt cx="1026360" cy="67500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120760" y="537840"/>
                  <a:ext cx="8517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笔形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033640" y="537840"/>
                  <a:ext cx="102636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060360" y="537840"/>
                <a:ext cx="1451880" cy="675000"/>
                <a:chOff x="3060360" y="537840"/>
                <a:chExt cx="1451880" cy="6750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147120" y="537840"/>
                  <a:ext cx="127764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笔形名称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060360" y="537840"/>
                  <a:ext cx="1451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512600" y="537840"/>
                <a:ext cx="1622520" cy="675000"/>
                <a:chOff x="4512600" y="537840"/>
                <a:chExt cx="1622520" cy="67500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599720" y="537840"/>
                  <a:ext cx="144792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实例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512600" y="537840"/>
                  <a:ext cx="162252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135840" y="537840"/>
                <a:ext cx="2238840" cy="675000"/>
                <a:chOff x="6135840" y="537840"/>
                <a:chExt cx="2238840" cy="6750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222600" y="537840"/>
                  <a:ext cx="20646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注释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135840" y="537840"/>
                  <a:ext cx="223884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1072440" y="1212840"/>
                <a:ext cx="960840" cy="576720"/>
                <a:chOff x="1072440" y="1212840"/>
                <a:chExt cx="960840" cy="5767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159560" y="1212840"/>
                  <a:ext cx="78660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072440" y="1212840"/>
                  <a:ext cx="96084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2033640" y="1212840"/>
                <a:ext cx="1026360" cy="576720"/>
                <a:chOff x="2033640" y="1212840"/>
                <a:chExt cx="1026360" cy="5767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2120760" y="1212840"/>
                  <a:ext cx="85176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一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033640" y="1212840"/>
                  <a:ext cx="102636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3060360" y="1212840"/>
                <a:ext cx="1451880" cy="576720"/>
                <a:chOff x="3060360" y="1212840"/>
                <a:chExt cx="1451880" cy="5767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3147120" y="1212840"/>
                  <a:ext cx="127764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横（提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060360" y="1212840"/>
                  <a:ext cx="145188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4512600" y="1212840"/>
                <a:ext cx="1622520" cy="576720"/>
                <a:chOff x="4512600" y="1212840"/>
                <a:chExt cx="1622520" cy="5767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4599720" y="1212840"/>
                  <a:ext cx="14479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二、要、厂、政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512600" y="1212840"/>
                  <a:ext cx="162252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6135840" y="1212840"/>
                <a:ext cx="2238840" cy="576720"/>
                <a:chOff x="6135840" y="1212840"/>
                <a:chExt cx="2238840" cy="5767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222600" y="1212840"/>
                  <a:ext cx="206460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“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提”也算作横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35840" y="1212840"/>
                  <a:ext cx="223884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1072440" y="1789560"/>
                <a:ext cx="960840" cy="576360"/>
                <a:chOff x="1072440" y="1789560"/>
                <a:chExt cx="960840" cy="5763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159560" y="1789560"/>
                  <a:ext cx="786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072440" y="1789560"/>
                  <a:ext cx="960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033640" y="1789560"/>
                <a:ext cx="1026360" cy="576360"/>
                <a:chOff x="2033640" y="1789560"/>
                <a:chExt cx="1026360" cy="57636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120760" y="1789560"/>
                  <a:ext cx="8517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丨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033640" y="1789560"/>
                  <a:ext cx="10263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3060360" y="1789560"/>
                <a:ext cx="1451880" cy="576360"/>
                <a:chOff x="3060360" y="1789560"/>
                <a:chExt cx="1451880" cy="5763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147120" y="1789560"/>
                  <a:ext cx="1277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竖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60360" y="1789560"/>
                  <a:ext cx="145188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4512600" y="1789560"/>
                <a:ext cx="1622520" cy="576360"/>
                <a:chOff x="4512600" y="1789560"/>
                <a:chExt cx="1622520" cy="5763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4599720" y="1789560"/>
                  <a:ext cx="14479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同、师、少、党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512600" y="1789560"/>
                  <a:ext cx="16225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135840" y="1789560"/>
                <a:ext cx="2238840" cy="576360"/>
                <a:chOff x="6135840" y="1789560"/>
                <a:chExt cx="2238840" cy="57636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222600" y="1789560"/>
                  <a:ext cx="2064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135840" y="1789560"/>
                  <a:ext cx="2238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1072440" y="2365920"/>
                <a:ext cx="960840" cy="576360"/>
                <a:chOff x="1072440" y="2365920"/>
                <a:chExt cx="960840" cy="5763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159560" y="2365920"/>
                  <a:ext cx="786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72440" y="2365920"/>
                  <a:ext cx="960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2033640" y="2365920"/>
                <a:ext cx="1026360" cy="576360"/>
                <a:chOff x="2033640" y="2365920"/>
                <a:chExt cx="1026360" cy="57636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2120760" y="2365920"/>
                  <a:ext cx="8517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丿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033640" y="2365920"/>
                  <a:ext cx="10263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3060360" y="2365920"/>
                <a:ext cx="1451880" cy="576360"/>
                <a:chOff x="3060360" y="2365920"/>
                <a:chExt cx="1451880" cy="5763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3147120" y="2365920"/>
                  <a:ext cx="1277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撇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060360" y="2365920"/>
                  <a:ext cx="145188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512600" y="2365920"/>
                <a:ext cx="1622520" cy="576360"/>
                <a:chOff x="4512600" y="2365920"/>
                <a:chExt cx="1622520" cy="5763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599720" y="2365920"/>
                  <a:ext cx="14479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但、箱、斤、月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512600" y="2365920"/>
                  <a:ext cx="16225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6135840" y="2365920"/>
                <a:ext cx="2238840" cy="576360"/>
                <a:chOff x="6135840" y="2365920"/>
                <a:chExt cx="2238840" cy="5763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6222600" y="2365920"/>
                  <a:ext cx="2064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135840" y="2365920"/>
                  <a:ext cx="2238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1072440" y="2942640"/>
                <a:ext cx="960840" cy="576360"/>
                <a:chOff x="1072440" y="2942640"/>
                <a:chExt cx="960840" cy="5763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1159560" y="2942640"/>
                  <a:ext cx="786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072440" y="2942640"/>
                  <a:ext cx="960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2033640" y="2942640"/>
                <a:ext cx="1026360" cy="576360"/>
                <a:chOff x="2033640" y="2942640"/>
                <a:chExt cx="1026360" cy="5763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2120760" y="2942640"/>
                  <a:ext cx="8517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丶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033640" y="2942640"/>
                  <a:ext cx="10263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3060360" y="2942640"/>
                <a:ext cx="1451880" cy="576360"/>
                <a:chOff x="3060360" y="2942640"/>
                <a:chExt cx="1451880" cy="5763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3147120" y="2942640"/>
                  <a:ext cx="1277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点（捺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60360" y="2942640"/>
                  <a:ext cx="145188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4512600" y="2942640"/>
                <a:ext cx="1622520" cy="576360"/>
                <a:chOff x="4512600" y="2942640"/>
                <a:chExt cx="1622520" cy="5763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599720" y="2942640"/>
                  <a:ext cx="14479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写、忙、定、间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512600" y="2942640"/>
                  <a:ext cx="16225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6135840" y="2942640"/>
                <a:ext cx="2238840" cy="576360"/>
                <a:chOff x="6135840" y="2942640"/>
                <a:chExt cx="2238840" cy="5763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222600" y="2942640"/>
                  <a:ext cx="2064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“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捺”也算作点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135840" y="2942640"/>
                  <a:ext cx="2238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1072440" y="3519000"/>
                <a:ext cx="960840" cy="709200"/>
                <a:chOff x="1072440" y="3519000"/>
                <a:chExt cx="960840" cy="70920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1159560" y="3519000"/>
                  <a:ext cx="78660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072440" y="3519000"/>
                  <a:ext cx="96084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2033640" y="3519000"/>
                <a:ext cx="1026360" cy="709200"/>
                <a:chOff x="2033640" y="3519000"/>
                <a:chExt cx="1026360" cy="70920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120760" y="3519000"/>
                  <a:ext cx="85176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­­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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033640" y="3519000"/>
                  <a:ext cx="102636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060360" y="3519000"/>
                <a:ext cx="1451880" cy="709200"/>
                <a:chOff x="3060360" y="3519000"/>
                <a:chExt cx="1451880" cy="70920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147120" y="3519000"/>
                  <a:ext cx="127764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折（竖弯勾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360" y="3519000"/>
                  <a:ext cx="145188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4512600" y="3519000"/>
                <a:ext cx="1622520" cy="709200"/>
                <a:chOff x="4512600" y="3519000"/>
                <a:chExt cx="1622520" cy="70920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599720" y="3519000"/>
                  <a:ext cx="144792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对、队、刀、弹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512600" y="3519000"/>
                  <a:ext cx="162252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6135840" y="3519000"/>
                <a:ext cx="2238840" cy="709200"/>
                <a:chOff x="6135840" y="3519000"/>
                <a:chExt cx="2238840" cy="70920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6222600" y="3519000"/>
                  <a:ext cx="206460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顺时针方向弯曲，多折笔画，以尾折为准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135840" y="3519000"/>
                  <a:ext cx="223884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072440" y="4228200"/>
                <a:ext cx="960840" cy="708840"/>
                <a:chOff x="1072440" y="4228200"/>
                <a:chExt cx="960840" cy="7088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159560" y="4228200"/>
                  <a:ext cx="78660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072440" y="4228200"/>
                  <a:ext cx="96084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2033640" y="4228200"/>
                <a:ext cx="1026360" cy="708840"/>
                <a:chOff x="2033640" y="4228200"/>
                <a:chExt cx="1026360" cy="7088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2120760" y="4228200"/>
                  <a:ext cx="8517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乚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033640" y="4228200"/>
                  <a:ext cx="102636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3060360" y="4228200"/>
                <a:ext cx="1451880" cy="708840"/>
                <a:chOff x="3060360" y="4228200"/>
                <a:chExt cx="1451880" cy="70884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147120" y="4228200"/>
                  <a:ext cx="12776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弯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060360" y="4228200"/>
                  <a:ext cx="14518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4512600" y="4228200"/>
                <a:ext cx="1622520" cy="708840"/>
                <a:chOff x="4512600" y="4228200"/>
                <a:chExt cx="1622520" cy="70884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4599720" y="4228200"/>
                  <a:ext cx="1447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匕、她、绿、以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512600" y="4228200"/>
                  <a:ext cx="162252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135840" y="4228200"/>
                <a:ext cx="2238840" cy="708840"/>
                <a:chOff x="6135840" y="4228200"/>
                <a:chExt cx="2238840" cy="70884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6222600" y="4228200"/>
                  <a:ext cx="206460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逆时针方向弯曲，多折笔画，以尾折为准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135840" y="4228200"/>
                  <a:ext cx="223884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1072440" y="4937400"/>
                <a:ext cx="960840" cy="576720"/>
                <a:chOff x="1072440" y="4937400"/>
                <a:chExt cx="960840" cy="576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59560" y="4937400"/>
                  <a:ext cx="78660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072440" y="4937400"/>
                  <a:ext cx="96084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2033640" y="4937400"/>
                <a:ext cx="1026360" cy="576720"/>
                <a:chOff x="2033640" y="4937400"/>
                <a:chExt cx="1026360" cy="576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120760" y="4937400"/>
                  <a:ext cx="85176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十，（ㄨ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033640" y="4937400"/>
                  <a:ext cx="102636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3060360" y="4937400"/>
                <a:ext cx="1451880" cy="576720"/>
                <a:chOff x="3060360" y="4937400"/>
                <a:chExt cx="1451880" cy="5767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3147120" y="4937400"/>
                  <a:ext cx="127764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060360" y="4937400"/>
                  <a:ext cx="145188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512600" y="4937400"/>
                <a:ext cx="1622520" cy="576720"/>
                <a:chOff x="4512600" y="4937400"/>
                <a:chExt cx="1622520" cy="5767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599720" y="4937400"/>
                  <a:ext cx="14479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草、希、档、地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512600" y="4937400"/>
                  <a:ext cx="162252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6135840" y="4937400"/>
                <a:ext cx="2238840" cy="576720"/>
                <a:chOff x="6135840" y="4937400"/>
                <a:chExt cx="2238840" cy="5767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6222600" y="4937400"/>
                  <a:ext cx="206460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交叉笔画只限于正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135840" y="4937400"/>
                  <a:ext cx="223884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1072440" y="5514120"/>
                <a:ext cx="960840" cy="576360"/>
                <a:chOff x="1072440" y="5514120"/>
                <a:chExt cx="960840" cy="5763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159560" y="5514120"/>
                  <a:ext cx="786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072440" y="5514120"/>
                  <a:ext cx="960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2033640" y="5514120"/>
                <a:ext cx="1026360" cy="576360"/>
                <a:chOff x="2033640" y="5514120"/>
                <a:chExt cx="1026360" cy="57636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2120760" y="5514120"/>
                  <a:ext cx="8517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口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033640" y="5514120"/>
                  <a:ext cx="10263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3060360" y="5514120"/>
                <a:ext cx="1451880" cy="576360"/>
                <a:chOff x="3060360" y="5514120"/>
                <a:chExt cx="1451880" cy="57636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3147120" y="5514120"/>
                  <a:ext cx="1277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方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060360" y="5514120"/>
                  <a:ext cx="145188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512600" y="5514120"/>
                <a:ext cx="1622520" cy="576360"/>
                <a:chOff x="4512600" y="5514120"/>
                <a:chExt cx="1622520" cy="5763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99720" y="5514120"/>
                  <a:ext cx="14479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国、跃、是、吃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512600" y="5514120"/>
                  <a:ext cx="16225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135840" y="5514120"/>
                <a:ext cx="2238840" cy="576360"/>
                <a:chOff x="6135840" y="5514120"/>
                <a:chExt cx="2238840" cy="5763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6222600" y="5514120"/>
                  <a:ext cx="2064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四边整齐的方框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135840" y="5514120"/>
                  <a:ext cx="2238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5" name=""/>
            <p:cNvSpPr/>
            <p:nvPr/>
          </p:nvSpPr>
          <p:spPr>
            <a:xfrm>
              <a:off x="1066680" y="533520"/>
              <a:ext cx="7314840" cy="55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799920" y="11426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音形混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拼音和笔形的混合输入是为了减少在全拼或简拼输入时的重码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编辑规则：（拼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[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形描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拼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[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形描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拼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[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形描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，其中，“拼音”可以是全拼、简拼或混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对于多音节词的输入，“拼音”一项是不可少的；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形描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项可有可无，最多不超过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799920" y="13712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中文数量词简化输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智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提供阿拉伯数字和中文大小写数字的转换能力，对一些常用量词也可简化输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规则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字”则输入简写中文数字。如：按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8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则输入“八一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字”则输入繁写中文数字。如：按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5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则输入“伍肆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7999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自定义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智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法允许用户自定义词组。基本方法是：先输入词组的拼音串，在提示行上选择一遍，即可造好新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例如：输入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shaminyuan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后先选择“长沙”再选择“民院”，“长沙民院”新词就造好了。下次只要输入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shaminyuan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或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my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即可输入“长沙民院”四个字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2.6.4    </a:t>
            </a:r>
            <a:r>
              <a:rPr b="0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五笔字型输入法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五笔字型汉字输入法是把汉字的笔画形象地概括为“横、竖、撇、捺、折”五种基本笔画（五笔），并考虑了汉字的三种（左右型、上下型、杂合型）基本字型而得名“五笔字型”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sjf</cp:lastModifiedBy>
  <dcterms:modified xsi:type="dcterms:W3CDTF">2001-09-07T13:40:54Z</dcterms:modified>
  <cp:revision>101</cp:revision>
  <dc:subject/>
  <dc:title>PowerPoint 演示文稿</dc:title>
</cp:coreProperties>
</file>